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84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914400" y="4093920"/>
            <a:ext cx="784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36320" y="190476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914400" y="409392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36320" y="409392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2527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68320" y="1904760"/>
            <a:ext cx="2527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222240" y="1904760"/>
            <a:ext cx="2527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914400" y="4093920"/>
            <a:ext cx="2527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68320" y="4093920"/>
            <a:ext cx="2527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222240" y="4093920"/>
            <a:ext cx="2527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914400" y="19047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83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6320" y="1904760"/>
            <a:ext cx="383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2057400" y="152280"/>
            <a:ext cx="5562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6320" y="1904760"/>
            <a:ext cx="383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409392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914400" y="19047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83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36320" y="190476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36320" y="409392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36320" y="190476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4093920"/>
            <a:ext cx="784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84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914400" y="4093920"/>
            <a:ext cx="784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6320" y="190476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914400" y="409392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936320" y="409392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2527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68320" y="1904760"/>
            <a:ext cx="2527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22240" y="1904760"/>
            <a:ext cx="2527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914400" y="4093920"/>
            <a:ext cx="2527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568320" y="4093920"/>
            <a:ext cx="2527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22240" y="4093920"/>
            <a:ext cx="2527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83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36320" y="1904760"/>
            <a:ext cx="383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057400" y="152280"/>
            <a:ext cx="5562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36320" y="1904760"/>
            <a:ext cx="383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409392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83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6320" y="190476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6320" y="409392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36320" y="190476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4093920"/>
            <a:ext cx="784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05560" y="6413040"/>
            <a:ext cx="5331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4770-0877-4EF8-A2B1-EE3E880FB0E1}" type="slidenum">
              <a:rPr b="0" lang="de-D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533520" y="228600"/>
            <a:ext cx="8086680" cy="6504120"/>
            <a:chOff x="533520" y="228600"/>
            <a:chExt cx="8086680" cy="6504120"/>
          </a:xfrm>
        </p:grpSpPr>
        <p:sp>
          <p:nvSpPr>
            <p:cNvPr id="4" name=""/>
            <p:cNvSpPr/>
            <p:nvPr/>
          </p:nvSpPr>
          <p:spPr>
            <a:xfrm>
              <a:off x="533520" y="1371600"/>
              <a:ext cx="150840" cy="5361120"/>
            </a:xfrm>
            <a:custGeom>
              <a:avLst/>
              <a:gdLst>
                <a:gd name="textAreaLeft" fmla="*/ 360 w 150840"/>
                <a:gd name="textAreaRight" fmla="*/ 150480 w 150840"/>
                <a:gd name="textAreaTop" fmla="*/ 360 h 5361120"/>
                <a:gd name="textAreaBottom" fmla="*/ 5360760 h 5361120"/>
              </a:gdLst>
              <a:ahLst/>
              <a:rect l="textAreaLeft" t="textAreaTop" r="textAreaRight" b="textAreaBottom"/>
              <a:pathLst>
                <a:path w="21600" h="765926">
                  <a:moveTo>
                    <a:pt x="225" y="0"/>
                  </a:moveTo>
                  <a:arcTo wR="225" hR="225" stAng="16200000" swAng="-5400000"/>
                  <a:lnTo>
                    <a:pt x="0" y="765701"/>
                  </a:lnTo>
                  <a:arcTo wR="225" hR="225" stAng="10800000" swAng="-5400000"/>
                  <a:lnTo>
                    <a:pt x="21375" y="765926"/>
                  </a:lnTo>
                  <a:arcTo wR="225" hR="225" stAng="5400000" swAng="-5400000"/>
                  <a:lnTo>
                    <a:pt x="21600" y="225"/>
                  </a:lnTo>
                  <a:arcTo wR="225" hR="225" stAng="0" swAng="-5400000"/>
                  <a:close/>
                </a:path>
              </a:pathLst>
            </a:custGeom>
            <a:solidFill>
              <a:srgbClr val="28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533520" y="1219320"/>
              <a:ext cx="8086680" cy="431280"/>
              <a:chOff x="533520" y="1219320"/>
              <a:chExt cx="8086680" cy="43128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523880"/>
                <a:ext cx="7324560" cy="126720"/>
              </a:xfrm>
              <a:prstGeom prst="roundRect">
                <a:avLst>
                  <a:gd name="adj" fmla="val 1250"/>
                </a:avLst>
              </a:prstGeom>
              <a:gradFill rotWithShape="0">
                <a:gsLst>
                  <a:gs pos="0">
                    <a:srgbClr val="00008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371600"/>
                <a:ext cx="8086680" cy="151920"/>
              </a:xfrm>
              <a:prstGeom prst="roundRect">
                <a:avLst>
                  <a:gd name="adj" fmla="val 1250"/>
                </a:avLst>
              </a:prstGeom>
              <a:gradFill rotWithShape="0">
                <a:gsLst>
                  <a:gs pos="0">
                    <a:srgbClr val="00008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219320"/>
                <a:ext cx="5149800" cy="152280"/>
              </a:xfrm>
              <a:prstGeom prst="roundRect">
                <a:avLst>
                  <a:gd name="adj" fmla="val 1250"/>
                </a:avLst>
              </a:prstGeom>
              <a:gradFill rotWithShape="0">
                <a:gsLst>
                  <a:gs pos="0">
                    <a:srgbClr val="00008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33520" y="228600"/>
              <a:ext cx="152280" cy="1139760"/>
            </a:xfrm>
            <a:custGeom>
              <a:avLst/>
              <a:gdLst>
                <a:gd name="textAreaLeft" fmla="*/ 360 w 152280"/>
                <a:gd name="textAreaRight" fmla="*/ 151920 w 152280"/>
                <a:gd name="textAreaTop" fmla="*/ 360 h 1139760"/>
                <a:gd name="textAreaBottom" fmla="*/ 1139400 h 1139760"/>
              </a:gdLst>
              <a:ahLst/>
              <a:rect l="textAreaLeft" t="textAreaTop" r="textAreaRight" b="textAreaBottom"/>
              <a:pathLst>
                <a:path w="21600" h="161338">
                  <a:moveTo>
                    <a:pt x="225" y="0"/>
                  </a:moveTo>
                  <a:arcTo wR="225" hR="225" stAng="16200000" swAng="-5400000"/>
                  <a:lnTo>
                    <a:pt x="0" y="161113"/>
                  </a:lnTo>
                  <a:arcTo wR="225" hR="225" stAng="10800000" swAng="-5400000"/>
                  <a:lnTo>
                    <a:pt x="21375" y="161338"/>
                  </a:lnTo>
                  <a:arcTo wR="225" hR="225" stAng="5400000" swAng="-5400000"/>
                  <a:lnTo>
                    <a:pt x="21600" y="225"/>
                  </a:lnTo>
                  <a:arcTo wR="225" hR="225" stAng="0" swAng="-5400000"/>
                  <a:close/>
                </a:path>
              </a:pathLst>
            </a:custGeom>
            <a:solidFill>
              <a:srgbClr val="28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10" name="tkw" descr=""/>
          <p:cNvPicPr/>
          <p:nvPr/>
        </p:nvPicPr>
        <p:blipFill>
          <a:blip r:embed="rId2"/>
          <a:stretch/>
        </p:blipFill>
        <p:spPr>
          <a:xfrm>
            <a:off x="7924680" y="6172200"/>
            <a:ext cx="552600" cy="398520"/>
          </a:xfrm>
          <a:prstGeom prst="rect">
            <a:avLst/>
          </a:prstGeom>
          <a:ln w="0">
            <a:noFill/>
          </a:ln>
        </p:spPr>
      </p:pic>
      <p:sp>
        <p:nvSpPr>
          <p:cNvPr id="11" name=""/>
          <p:cNvSpPr/>
          <p:nvPr/>
        </p:nvSpPr>
        <p:spPr>
          <a:xfrm>
            <a:off x="6324480" y="6172200"/>
            <a:ext cx="175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Chair for Telecommunication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890160" y="6172200"/>
            <a:ext cx="197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ITG Workshop W</a:t>
            </a:r>
            <a:r>
              <a:rPr b="1" lang="de-DE" sz="1200" spc="-1" strike="noStrike">
                <a:solidFill>
                  <a:srgbClr val="003366"/>
                </a:solidFill>
                <a:latin typeface="Arial"/>
              </a:rPr>
              <a:t>ü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rzburg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23./24. July 2001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" name="ITG2" descr=""/>
          <p:cNvPicPr/>
          <p:nvPr/>
        </p:nvPicPr>
        <p:blipFill>
          <a:blip r:embed="rId3"/>
          <a:stretch/>
        </p:blipFill>
        <p:spPr>
          <a:xfrm>
            <a:off x="990720" y="457200"/>
            <a:ext cx="857160" cy="468360"/>
          </a:xfrm>
          <a:prstGeom prst="rect">
            <a:avLst/>
          </a:prstGeom>
          <a:ln w="0">
            <a:noFill/>
          </a:ln>
        </p:spPr>
      </p:pic>
      <p:pic>
        <p:nvPicPr>
          <p:cNvPr id="14" name="i3" descr=""/>
          <p:cNvPicPr/>
          <p:nvPr/>
        </p:nvPicPr>
        <p:blipFill>
          <a:blip r:embed="rId4"/>
          <a:stretch/>
        </p:blipFill>
        <p:spPr>
          <a:xfrm>
            <a:off x="7772400" y="380880"/>
            <a:ext cx="669960" cy="728640"/>
          </a:xfrm>
          <a:prstGeom prst="rect">
            <a:avLst/>
          </a:prstGeom>
          <a:ln w="0">
            <a:noFill/>
          </a:ln>
        </p:spPr>
      </p:pic>
      <p:pic>
        <p:nvPicPr>
          <p:cNvPr id="15" name="tulogo3" descr=""/>
          <p:cNvPicPr/>
          <p:nvPr/>
        </p:nvPicPr>
        <p:blipFill>
          <a:blip r:embed="rId5"/>
          <a:stretch/>
        </p:blipFill>
        <p:spPr>
          <a:xfrm>
            <a:off x="1066680" y="6095880"/>
            <a:ext cx="2094120" cy="55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3520" y="228600"/>
            <a:ext cx="8086680" cy="6504120"/>
            <a:chOff x="533520" y="228600"/>
            <a:chExt cx="8086680" cy="6504120"/>
          </a:xfrm>
        </p:grpSpPr>
        <p:sp>
          <p:nvSpPr>
            <p:cNvPr id="54" name=""/>
            <p:cNvSpPr/>
            <p:nvPr/>
          </p:nvSpPr>
          <p:spPr>
            <a:xfrm>
              <a:off x="533520" y="1371600"/>
              <a:ext cx="150840" cy="5361120"/>
            </a:xfrm>
            <a:custGeom>
              <a:avLst/>
              <a:gdLst>
                <a:gd name="textAreaLeft" fmla="*/ 360 w 150840"/>
                <a:gd name="textAreaRight" fmla="*/ 150480 w 150840"/>
                <a:gd name="textAreaTop" fmla="*/ 360 h 5361120"/>
                <a:gd name="textAreaBottom" fmla="*/ 5360760 h 5361120"/>
              </a:gdLst>
              <a:ahLst/>
              <a:rect l="textAreaLeft" t="textAreaTop" r="textAreaRight" b="textAreaBottom"/>
              <a:pathLst>
                <a:path w="21600" h="765926">
                  <a:moveTo>
                    <a:pt x="225" y="0"/>
                  </a:moveTo>
                  <a:arcTo wR="225" hR="225" stAng="16200000" swAng="-5400000"/>
                  <a:lnTo>
                    <a:pt x="0" y="765701"/>
                  </a:lnTo>
                  <a:arcTo wR="225" hR="225" stAng="10800000" swAng="-5400000"/>
                  <a:lnTo>
                    <a:pt x="21375" y="765926"/>
                  </a:lnTo>
                  <a:arcTo wR="225" hR="225" stAng="5400000" swAng="-5400000"/>
                  <a:lnTo>
                    <a:pt x="21600" y="225"/>
                  </a:lnTo>
                  <a:arcTo wR="225" hR="225" stAng="0" swAng="-5400000"/>
                  <a:close/>
                </a:path>
              </a:pathLst>
            </a:custGeom>
            <a:solidFill>
              <a:srgbClr val="28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533520" y="1219320"/>
              <a:ext cx="8086680" cy="431280"/>
              <a:chOff x="533520" y="1219320"/>
              <a:chExt cx="8086680" cy="431280"/>
            </a:xfrm>
          </p:grpSpPr>
          <p:sp>
            <p:nvSpPr>
              <p:cNvPr id="56" name=""/>
              <p:cNvSpPr/>
              <p:nvPr/>
            </p:nvSpPr>
            <p:spPr>
              <a:xfrm>
                <a:off x="533520" y="1523880"/>
                <a:ext cx="7324560" cy="126720"/>
              </a:xfrm>
              <a:prstGeom prst="roundRect">
                <a:avLst>
                  <a:gd name="adj" fmla="val 1250"/>
                </a:avLst>
              </a:prstGeom>
              <a:gradFill rotWithShape="0">
                <a:gsLst>
                  <a:gs pos="0">
                    <a:srgbClr val="00008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33520" y="1371600"/>
                <a:ext cx="8086680" cy="151920"/>
              </a:xfrm>
              <a:prstGeom prst="roundRect">
                <a:avLst>
                  <a:gd name="adj" fmla="val 1250"/>
                </a:avLst>
              </a:prstGeom>
              <a:gradFill rotWithShape="0">
                <a:gsLst>
                  <a:gs pos="0">
                    <a:srgbClr val="00008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3520" y="1219320"/>
                <a:ext cx="5149800" cy="152280"/>
              </a:xfrm>
              <a:prstGeom prst="roundRect">
                <a:avLst>
                  <a:gd name="adj" fmla="val 1250"/>
                </a:avLst>
              </a:prstGeom>
              <a:gradFill rotWithShape="0">
                <a:gsLst>
                  <a:gs pos="0">
                    <a:srgbClr val="00008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533520" y="228600"/>
              <a:ext cx="152280" cy="1139760"/>
            </a:xfrm>
            <a:custGeom>
              <a:avLst/>
              <a:gdLst>
                <a:gd name="textAreaLeft" fmla="*/ 360 w 152280"/>
                <a:gd name="textAreaRight" fmla="*/ 151920 w 152280"/>
                <a:gd name="textAreaTop" fmla="*/ 360 h 1139760"/>
                <a:gd name="textAreaBottom" fmla="*/ 1139400 h 1139760"/>
              </a:gdLst>
              <a:ahLst/>
              <a:rect l="textAreaLeft" t="textAreaTop" r="textAreaRight" b="textAreaBottom"/>
              <a:pathLst>
                <a:path w="21600" h="161338">
                  <a:moveTo>
                    <a:pt x="225" y="0"/>
                  </a:moveTo>
                  <a:arcTo wR="225" hR="225" stAng="16200000" swAng="-5400000"/>
                  <a:lnTo>
                    <a:pt x="0" y="161113"/>
                  </a:lnTo>
                  <a:arcTo wR="225" hR="225" stAng="10800000" swAng="-5400000"/>
                  <a:lnTo>
                    <a:pt x="21375" y="161338"/>
                  </a:lnTo>
                  <a:arcTo wR="225" hR="225" stAng="5400000" swAng="-5400000"/>
                  <a:lnTo>
                    <a:pt x="21600" y="225"/>
                  </a:lnTo>
                  <a:arcTo wR="225" hR="225" stAng="0" swAng="-5400000"/>
                  <a:close/>
                </a:path>
              </a:pathLst>
            </a:custGeom>
            <a:solidFill>
              <a:srgbClr val="28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60" name="PlaceHolder 2"/>
          <p:cNvSpPr>
            <a:spLocks noGrp="1"/>
          </p:cNvSpPr>
          <p:nvPr>
            <p:ph type="ftr" idx="2"/>
          </p:nvPr>
        </p:nvSpPr>
        <p:spPr>
          <a:xfrm>
            <a:off x="3581280" y="6154560"/>
            <a:ext cx="24386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ITG Workshop W</a:t>
            </a:r>
            <a:r>
              <a:rPr b="1" lang="de-DE" sz="1200" spc="-1" strike="noStrike">
                <a:solidFill>
                  <a:srgbClr val="003366"/>
                </a:solidFill>
                <a:latin typeface="Arial"/>
              </a:rPr>
              <a:t>ü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rzbu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lang="de-DE" sz="12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/24.</a:t>
            </a:r>
            <a:r>
              <a:rPr b="1" lang="de-DE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July</a:t>
            </a:r>
            <a:r>
              <a:rPr b="1" lang="de-DE" sz="1200" spc="-1" strike="noStrike">
                <a:solidFill>
                  <a:srgbClr val="003366"/>
                </a:solidFill>
                <a:latin typeface="Arial"/>
              </a:rPr>
              <a:t>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tkw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552600" cy="398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400800" y="61722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Chair for Telecommunication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3" name="ITG2" descr=""/>
          <p:cNvPicPr/>
          <p:nvPr/>
        </p:nvPicPr>
        <p:blipFill>
          <a:blip r:embed="rId3"/>
          <a:stretch/>
        </p:blipFill>
        <p:spPr>
          <a:xfrm>
            <a:off x="990720" y="533520"/>
            <a:ext cx="857160" cy="468360"/>
          </a:xfrm>
          <a:prstGeom prst="rect">
            <a:avLst/>
          </a:prstGeom>
          <a:ln w="0">
            <a:noFill/>
          </a:ln>
        </p:spPr>
      </p:pic>
      <p:pic>
        <p:nvPicPr>
          <p:cNvPr id="64" name="i3" descr=""/>
          <p:cNvPicPr/>
          <p:nvPr/>
        </p:nvPicPr>
        <p:blipFill>
          <a:blip r:embed="rId4"/>
          <a:stretch/>
        </p:blipFill>
        <p:spPr>
          <a:xfrm>
            <a:off x="7848720" y="457200"/>
            <a:ext cx="633240" cy="689040"/>
          </a:xfrm>
          <a:prstGeom prst="rect">
            <a:avLst/>
          </a:prstGeom>
          <a:ln w="0">
            <a:noFill/>
          </a:ln>
        </p:spPr>
      </p:pic>
      <p:pic>
        <p:nvPicPr>
          <p:cNvPr id="65" name="tulogo3" descr=""/>
          <p:cNvPicPr/>
          <p:nvPr/>
        </p:nvPicPr>
        <p:blipFill>
          <a:blip r:embed="rId5"/>
          <a:stretch/>
        </p:blipFill>
        <p:spPr>
          <a:xfrm>
            <a:off x="990720" y="6095880"/>
            <a:ext cx="2090520" cy="5572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haracteristics of HTTP/TCP Traffic”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934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Jörg Schüler, Daniel Müll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echnische Universität Dres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hair for Telecommunica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rof. Dr.-Ing. Lehner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95000" y="1981080"/>
            <a:ext cx="30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G Workshop W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ü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zbur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3./24. July 200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5562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CP throughput (IV)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99" name="tab_slow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28480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HTTP 1.0 (Basis)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4190760"/>
            <a:ext cx="7391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riell object downlo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CP connection establishment for each object (incl. connection setup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[Irnisch, ITG WS 2000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677960" y="1905120"/>
            <a:ext cx="6308640" cy="1462320"/>
            <a:chOff x="1677960" y="1905120"/>
            <a:chExt cx="6308640" cy="1462320"/>
          </a:xfrm>
        </p:grpSpPr>
        <p:sp>
          <p:nvSpPr>
            <p:cNvPr id="203" name=""/>
            <p:cNvSpPr/>
            <p:nvPr/>
          </p:nvSpPr>
          <p:spPr>
            <a:xfrm>
              <a:off x="2595600" y="2378160"/>
              <a:ext cx="411120" cy="1778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43320" y="2378160"/>
              <a:ext cx="412920" cy="177840"/>
            </a:xfrm>
            <a:prstGeom prst="rect">
              <a:avLst/>
            </a:prstGeom>
            <a:solidFill>
              <a:srgbClr val="99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79920" y="2378160"/>
              <a:ext cx="411120" cy="177840"/>
            </a:xfrm>
            <a:prstGeom prst="rect">
              <a:avLst/>
            </a:prstGeom>
            <a:solidFill>
              <a:srgbClr val="99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389320" y="2673360"/>
              <a:ext cx="542592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77960" y="225900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UL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77960" y="267336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DL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5680" y="26733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76560" y="2792520"/>
              <a:ext cx="1098720" cy="176040"/>
            </a:xfrm>
            <a:prstGeom prst="rect">
              <a:avLst/>
            </a:prstGeom>
            <a:solidFill>
              <a:srgbClr val="99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724280" y="2792520"/>
              <a:ext cx="755640" cy="176040"/>
            </a:xfrm>
            <a:prstGeom prst="rect">
              <a:avLst/>
            </a:prstGeom>
            <a:solidFill>
              <a:srgbClr val="0066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61240" y="2792520"/>
              <a:ext cx="1579320" cy="176040"/>
            </a:xfrm>
            <a:prstGeom prst="rect">
              <a:avLst/>
            </a:prstGeom>
            <a:solidFill>
              <a:srgbClr val="0066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119680" y="1916280"/>
              <a:ext cx="191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HTTP GET Req.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60600" y="1905120"/>
              <a:ext cx="335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Requests for embedded objects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941560" y="2968560"/>
              <a:ext cx="134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Master Fil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31360" y="2968560"/>
              <a:ext cx="21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Embedded Objects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514600" y="2666880"/>
              <a:ext cx="167652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2666880"/>
              <a:ext cx="129528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86400" y="2666880"/>
              <a:ext cx="205740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061280" y="3352680"/>
            <a:ext cx="30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Duration of TCP connect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438280" y="2666880"/>
            <a:ext cx="533520" cy="76212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057400" y="22860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HTTP 1.0 (parallel con.)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680" y="45716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p to 4 parallel TCP connec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CP connection establishment for each object (incl. connection setup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032000" y="1752480"/>
            <a:ext cx="33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Requests for embedded object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9160" y="1752480"/>
            <a:ext cx="19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HTTP GET Req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05080" y="2214720"/>
            <a:ext cx="411120" cy="1774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52800" y="2214720"/>
            <a:ext cx="412920" cy="177480"/>
          </a:xfrm>
          <a:prstGeom prst="rect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89400" y="2214720"/>
            <a:ext cx="411480" cy="177480"/>
          </a:xfrm>
          <a:prstGeom prst="rect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098800" y="2509920"/>
            <a:ext cx="542592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45160" y="25099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86040" y="2629080"/>
            <a:ext cx="1098720" cy="176040"/>
          </a:xfrm>
          <a:prstGeom prst="rect">
            <a:avLst/>
          </a:prstGeom>
          <a:solidFill>
            <a:srgbClr val="99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33760" y="2629080"/>
            <a:ext cx="755640" cy="17604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70720" y="2629080"/>
            <a:ext cx="1579320" cy="17604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27400" y="2805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24080" y="2503440"/>
            <a:ext cx="1676520" cy="0"/>
          </a:xfrm>
          <a:prstGeom prst="line">
            <a:avLst/>
          </a:prstGeom>
          <a:ln w="255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00600" y="2503440"/>
            <a:ext cx="1295280" cy="0"/>
          </a:xfrm>
          <a:prstGeom prst="line">
            <a:avLst/>
          </a:prstGeom>
          <a:ln w="255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95880" y="2503440"/>
            <a:ext cx="2057400" cy="0"/>
          </a:xfrm>
          <a:prstGeom prst="line">
            <a:avLst/>
          </a:prstGeom>
          <a:ln w="255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2147760" y="2960640"/>
            <a:ext cx="5624640" cy="736920"/>
            <a:chOff x="2147760" y="2960640"/>
            <a:chExt cx="5624640" cy="736920"/>
          </a:xfrm>
        </p:grpSpPr>
        <p:sp>
          <p:nvSpPr>
            <p:cNvPr id="239" name=""/>
            <p:cNvSpPr/>
            <p:nvPr/>
          </p:nvSpPr>
          <p:spPr>
            <a:xfrm>
              <a:off x="4029120" y="3003480"/>
              <a:ext cx="412560" cy="177840"/>
            </a:xfrm>
            <a:prstGeom prst="rect">
              <a:avLst/>
            </a:prstGeom>
            <a:solidFill>
              <a:srgbClr val="99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10280" y="2960640"/>
              <a:ext cx="411120" cy="177840"/>
            </a:xfrm>
            <a:prstGeom prst="rect">
              <a:avLst/>
            </a:prstGeom>
            <a:solidFill>
              <a:srgbClr val="99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47760" y="3265200"/>
              <a:ext cx="542592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21480" y="329868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10080" y="3341520"/>
              <a:ext cx="1523880" cy="252360"/>
            </a:xfrm>
            <a:prstGeom prst="rect">
              <a:avLst/>
            </a:prstGeom>
            <a:solidFill>
              <a:srgbClr val="0066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567480" y="3417840"/>
              <a:ext cx="758880" cy="176040"/>
            </a:xfrm>
            <a:prstGeom prst="rect">
              <a:avLst/>
            </a:prstGeom>
            <a:solidFill>
              <a:srgbClr val="0066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76560" y="3265200"/>
              <a:ext cx="213372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10280" y="3265200"/>
              <a:ext cx="121896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2133720" y="3733920"/>
            <a:ext cx="5624640" cy="736560"/>
            <a:chOff x="2133720" y="3733920"/>
            <a:chExt cx="5624640" cy="736560"/>
          </a:xfrm>
        </p:grpSpPr>
        <p:sp>
          <p:nvSpPr>
            <p:cNvPr id="248" name=""/>
            <p:cNvSpPr/>
            <p:nvPr/>
          </p:nvSpPr>
          <p:spPr>
            <a:xfrm>
              <a:off x="4015080" y="3776400"/>
              <a:ext cx="412560" cy="177480"/>
            </a:xfrm>
            <a:prstGeom prst="rect">
              <a:avLst/>
            </a:prstGeom>
            <a:solidFill>
              <a:srgbClr val="99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76920" y="3733920"/>
              <a:ext cx="411120" cy="177480"/>
            </a:xfrm>
            <a:prstGeom prst="rect">
              <a:avLst/>
            </a:prstGeom>
            <a:solidFill>
              <a:srgbClr val="99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33720" y="4038480"/>
              <a:ext cx="5426280" cy="10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07440" y="40716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96040" y="4114440"/>
              <a:ext cx="380880" cy="228240"/>
            </a:xfrm>
            <a:prstGeom prst="rect">
              <a:avLst/>
            </a:prstGeom>
            <a:solidFill>
              <a:srgbClr val="0066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553440" y="4190760"/>
              <a:ext cx="758880" cy="176040"/>
            </a:xfrm>
            <a:prstGeom prst="rect">
              <a:avLst/>
            </a:prstGeom>
            <a:solidFill>
              <a:srgbClr val="0066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62520" y="4038480"/>
              <a:ext cx="91440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96240" y="4038480"/>
              <a:ext cx="1219320" cy="108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34120" y="4114440"/>
              <a:ext cx="755640" cy="176040"/>
            </a:xfrm>
            <a:prstGeom prst="rect">
              <a:avLst/>
            </a:prstGeom>
            <a:solidFill>
              <a:srgbClr val="0066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76920" y="4038480"/>
              <a:ext cx="121932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96240" y="3733920"/>
              <a:ext cx="411120" cy="177480"/>
            </a:xfrm>
            <a:prstGeom prst="rect">
              <a:avLst/>
            </a:prstGeom>
            <a:solidFill>
              <a:srgbClr val="99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057400" y="22860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HTTP 1.0 (keep alive)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680" y="45716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p to 4 parallel TCP connec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re-establishment of TCP connections for following object downloads (from the same serve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32000" y="1752480"/>
            <a:ext cx="33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Requests for embedded object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29160" y="1752480"/>
            <a:ext cx="19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HTTP GET Req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305080" y="2214720"/>
            <a:ext cx="411120" cy="1774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52800" y="2214720"/>
            <a:ext cx="412920" cy="177480"/>
          </a:xfrm>
          <a:prstGeom prst="rect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89400" y="2214720"/>
            <a:ext cx="411480" cy="177480"/>
          </a:xfrm>
          <a:prstGeom prst="rect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098800" y="2509920"/>
            <a:ext cx="542592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445160" y="25099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86040" y="2629080"/>
            <a:ext cx="1098720" cy="176040"/>
          </a:xfrm>
          <a:prstGeom prst="rect">
            <a:avLst/>
          </a:prstGeom>
          <a:solidFill>
            <a:srgbClr val="99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33760" y="2629080"/>
            <a:ext cx="755640" cy="17604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70720" y="2629080"/>
            <a:ext cx="1579320" cy="17604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27400" y="2805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24080" y="2503440"/>
            <a:ext cx="5091120" cy="11160"/>
          </a:xfrm>
          <a:prstGeom prst="line">
            <a:avLst/>
          </a:prstGeom>
          <a:ln w="255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29120" y="3003480"/>
            <a:ext cx="412560" cy="177840"/>
          </a:xfrm>
          <a:prstGeom prst="rect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110280" y="2960640"/>
            <a:ext cx="411120" cy="177840"/>
          </a:xfrm>
          <a:prstGeom prst="rect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47760" y="3265560"/>
            <a:ext cx="542628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21480" y="32986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10080" y="3341520"/>
            <a:ext cx="1523880" cy="25272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67480" y="3417840"/>
            <a:ext cx="758880" cy="17640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976560" y="3265560"/>
            <a:ext cx="3338640" cy="11160"/>
          </a:xfrm>
          <a:prstGeom prst="line">
            <a:avLst/>
          </a:prstGeom>
          <a:ln w="255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014720" y="3776760"/>
            <a:ext cx="412920" cy="177840"/>
          </a:xfrm>
          <a:prstGeom prst="rect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876920" y="3733920"/>
            <a:ext cx="411120" cy="177840"/>
          </a:xfrm>
          <a:prstGeom prst="rect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133720" y="4038480"/>
            <a:ext cx="5425920" cy="18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07080" y="407196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95680" y="4114800"/>
            <a:ext cx="381240" cy="22860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553080" y="4191120"/>
            <a:ext cx="758880" cy="17604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038480"/>
            <a:ext cx="3352680" cy="0"/>
          </a:xfrm>
          <a:prstGeom prst="line">
            <a:avLst/>
          </a:prstGeom>
          <a:ln w="255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34120" y="4114800"/>
            <a:ext cx="755640" cy="17604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5880" y="3733920"/>
            <a:ext cx="411120" cy="177840"/>
          </a:xfrm>
          <a:prstGeom prst="rect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057400" y="22860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HTTP 1.1 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66680" y="45716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p to 4 parallel TCP connec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sistent TCP connec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pelined reques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032000" y="1752480"/>
            <a:ext cx="33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Requests for embedded object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29160" y="1752480"/>
            <a:ext cx="19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HTTP GET Req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305080" y="2214720"/>
            <a:ext cx="411120" cy="1774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52800" y="2214720"/>
            <a:ext cx="412920" cy="177480"/>
          </a:xfrm>
          <a:prstGeom prst="rect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19720" y="2209680"/>
            <a:ext cx="411120" cy="177840"/>
          </a:xfrm>
          <a:prstGeom prst="rect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98800" y="2509920"/>
            <a:ext cx="542592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445160" y="25099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786040" y="2629080"/>
            <a:ext cx="1098720" cy="176040"/>
          </a:xfrm>
          <a:prstGeom prst="rect">
            <a:avLst/>
          </a:prstGeom>
          <a:solidFill>
            <a:srgbClr val="99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76920" y="2590920"/>
            <a:ext cx="755640" cy="17604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715000" y="2590920"/>
            <a:ext cx="1579680" cy="17604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227400" y="2805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4080" y="2503440"/>
            <a:ext cx="5091120" cy="11160"/>
          </a:xfrm>
          <a:prstGeom prst="line">
            <a:avLst/>
          </a:prstGeom>
          <a:ln w="255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38480" y="2971800"/>
            <a:ext cx="412920" cy="177840"/>
          </a:xfrm>
          <a:prstGeom prst="rect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2971800"/>
            <a:ext cx="411120" cy="177840"/>
          </a:xfrm>
          <a:prstGeom prst="rect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47760" y="3265560"/>
            <a:ext cx="542628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521480" y="32986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3352680"/>
            <a:ext cx="1524240" cy="22860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553080" y="3352680"/>
            <a:ext cx="773280" cy="22860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76560" y="3265560"/>
            <a:ext cx="3338640" cy="11160"/>
          </a:xfrm>
          <a:prstGeom prst="line">
            <a:avLst/>
          </a:prstGeom>
          <a:ln w="255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038480" y="3733920"/>
            <a:ext cx="412920" cy="177840"/>
          </a:xfrm>
          <a:prstGeom prst="rect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3733920"/>
            <a:ext cx="411120" cy="177840"/>
          </a:xfrm>
          <a:prstGeom prst="rect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33720" y="4038480"/>
            <a:ext cx="5425920" cy="18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507080" y="407196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10080" y="4114800"/>
            <a:ext cx="381240" cy="22860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05720" y="4114800"/>
            <a:ext cx="758880" cy="22860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962520" y="4038480"/>
            <a:ext cx="3352680" cy="0"/>
          </a:xfrm>
          <a:prstGeom prst="line">
            <a:avLst/>
          </a:prstGeom>
          <a:ln w="255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867280" y="4114800"/>
            <a:ext cx="755640" cy="22860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952880" y="3733920"/>
            <a:ext cx="411120" cy="177840"/>
          </a:xfrm>
          <a:prstGeom prst="rect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eterministic case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391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assumption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xed number of objects per page: 1, 20 and 8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xed file (object) sizes: 80kByte, 4 kByte and 1kBy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lay budg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CP connection setup: 1 RTT (SYN, ACK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ansmission of HTTP request: 0.5*RT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rst byte arrival of object: 0.5*RTT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alculations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22" name="tab_offer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66560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imulation Study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24" name="model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09624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imulations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1371600" y="1905120"/>
          <a:ext cx="6934320" cy="4154400"/>
        </p:xfrm>
        <a:graphic>
          <a:graphicData uri="http://schemas.openxmlformats.org/drawingml/2006/table">
            <a:tbl>
              <a:tblPr/>
              <a:tblGrid>
                <a:gridCol w="2286000"/>
                <a:gridCol w="1600200"/>
                <a:gridCol w="1600200"/>
                <a:gridCol w="1447920"/>
              </a:tblGrid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aramete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hoi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TSI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u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6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umber of Web-Page-Requests per Sessi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gnorma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[N</a:t>
                      </a:r>
                      <a:r>
                        <a:rPr b="0" lang="de-DE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P</a:t>
                      </a: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=12.58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eometric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[N</a:t>
                      </a:r>
                      <a:r>
                        <a:rPr b="0" lang="de-DE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P</a:t>
                      </a: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=5.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ix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</a:t>
                      </a:r>
                      <a:r>
                        <a:rPr b="0" lang="de-DE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P</a:t>
                      </a: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=20.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ading Ti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ibul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[T</a:t>
                      </a:r>
                      <a:r>
                        <a:rPr b="0" lang="de-DE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R</a:t>
                      </a: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=39.45 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eometric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[T</a:t>
                      </a:r>
                      <a:r>
                        <a:rPr b="0" lang="de-DE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R</a:t>
                      </a: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=412 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eometric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[T</a:t>
                      </a:r>
                      <a:r>
                        <a:rPr b="0" lang="de-DE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R</a:t>
                      </a: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=20.0 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umber of  Objects per Pag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amm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[N</a:t>
                      </a:r>
                      <a:r>
                        <a:rPr b="0" lang="de-DE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O</a:t>
                      </a: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=5.5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eometric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[N</a:t>
                      </a:r>
                      <a:r>
                        <a:rPr b="0" lang="de-DE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O</a:t>
                      </a: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=2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quall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[N</a:t>
                      </a:r>
                      <a:r>
                        <a:rPr b="0" lang="de-DE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O</a:t>
                      </a: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=2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-Object Processing Ti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amm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[T</a:t>
                      </a:r>
                      <a:r>
                        <a:rPr b="0" lang="de-DE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P</a:t>
                      </a: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=0.86 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eometric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[T</a:t>
                      </a:r>
                      <a:r>
                        <a:rPr b="0" lang="de-DE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P</a:t>
                      </a: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=0.0104 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ix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r>
                        <a:rPr b="0" lang="de-DE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P</a:t>
                      </a: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=x*RT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bject Siz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gnorma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[S]=7.7 kByt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aret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[S]=12 kByt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quall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[S]=4 kByt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Offered Load (1 user)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29" name="offered_all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59592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Overview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CP throughput model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luding initial Slow Start phase !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verview on HTTP ver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lculation resul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mulation resul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248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alculation vs. Simulation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31" name="tab_off_comp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44611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80720" y="152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hroughput (more users)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33" name="throu_all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90084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80720" y="152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hroughput (inc. errors)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35" name="throu_10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85800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nclusions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CP throughput model takes the initial Slow Start phase into accou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Problem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ecast of RTT (dynamic due to queuing) 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Solvable for infinite buffer sizes !!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tions of HTTP and TCP are easy to determi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mple calculations for a deterministic scenari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ut many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if´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then´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(different cas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mulation results show very high variations and confidence intervall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Offered Load (II)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39" name="offer_basis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08660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7400" y="380880"/>
            <a:ext cx="5562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b Browsing” (WWW) is THE most used application in today´s Interne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sed on the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per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t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nsfer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tocol (HTTP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% to 95% portion of the overall Internet traffic is HTTP rela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TTP combines former independent application protocols like “ftp” or “news” in 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57400" y="380880"/>
            <a:ext cx="5562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HTML Document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320004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TTP organizes the transfer of Hyper Text Markup Language (HTML) documents (Web Pag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TML documents contain of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ster File (page descriptio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ral inline (embedded) objects/files (same or diff. server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deling Problem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umber of embedded objects and its file sizes vary in a wide range (application driven),  [Charzinski, etc.]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http2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6265800" cy="1306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286000" y="2286000"/>
            <a:ext cx="152280" cy="380880"/>
          </a:xfrm>
          <a:prstGeom prst="rect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562000" y="2286000"/>
            <a:ext cx="75960" cy="380880"/>
          </a:xfrm>
          <a:prstGeom prst="rect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5562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HTTP and TCP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TTP: file request phase and a file download ph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 file (object) transfer HTTP uses the Transmission Control Protocol (TCP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CP offers a reliable, in-sequence data transmis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u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lso comes with a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flow contro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Slow Start, CA) and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connection setup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h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jor effect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ynamic and file size dependent traffic load (throughput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bject request delay´s + connection setup 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666880" y="2286000"/>
            <a:ext cx="4357080" cy="635760"/>
            <a:chOff x="2666880" y="2286000"/>
            <a:chExt cx="4357080" cy="635760"/>
          </a:xfrm>
        </p:grpSpPr>
        <p:sp>
          <p:nvSpPr>
            <p:cNvPr id="118" name=""/>
            <p:cNvSpPr/>
            <p:nvPr/>
          </p:nvSpPr>
          <p:spPr>
            <a:xfrm>
              <a:off x="2826360" y="2286000"/>
              <a:ext cx="317880" cy="142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00760" y="2286000"/>
              <a:ext cx="319320" cy="142560"/>
            </a:xfrm>
            <a:prstGeom prst="rect">
              <a:avLst/>
            </a:prstGeom>
            <a:solidFill>
              <a:srgbClr val="99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57280" y="2286000"/>
              <a:ext cx="317880" cy="142560"/>
            </a:xfrm>
            <a:prstGeom prst="rect">
              <a:avLst/>
            </a:prstGeom>
            <a:solidFill>
              <a:srgbClr val="99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66880" y="2522880"/>
              <a:ext cx="419724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73040" y="252288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198240" y="2618280"/>
              <a:ext cx="849600" cy="141480"/>
            </a:xfrm>
            <a:prstGeom prst="rect">
              <a:avLst/>
            </a:prstGeom>
            <a:solidFill>
              <a:srgbClr val="99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73000" y="2618280"/>
              <a:ext cx="584280" cy="141480"/>
            </a:xfrm>
            <a:prstGeom prst="rect">
              <a:avLst/>
            </a:prstGeom>
            <a:solidFill>
              <a:srgbClr val="0066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29880" y="2618280"/>
              <a:ext cx="1221480" cy="141480"/>
            </a:xfrm>
            <a:prstGeom prst="rect">
              <a:avLst/>
            </a:prstGeom>
            <a:solidFill>
              <a:srgbClr val="0066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63720" y="2517840"/>
              <a:ext cx="129672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60440" y="2517840"/>
              <a:ext cx="100188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62320" y="2517840"/>
              <a:ext cx="159120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Question !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2895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sulting Traffic Characteristics for  HTTP/TCP traffic 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tcphttp2" descr=""/>
          <p:cNvPicPr/>
          <p:nvPr/>
        </p:nvPicPr>
        <p:blipFill>
          <a:blip r:embed="rId1"/>
          <a:stretch/>
        </p:blipFill>
        <p:spPr>
          <a:xfrm>
            <a:off x="4191120" y="1905120"/>
            <a:ext cx="3124080" cy="1090440"/>
          </a:xfrm>
          <a:prstGeom prst="rect">
            <a:avLst/>
          </a:prstGeom>
          <a:ln w="0">
            <a:noFill/>
          </a:ln>
        </p:spPr>
      </p:pic>
      <p:pic>
        <p:nvPicPr>
          <p:cNvPr id="132" name="tcp_behav2" descr=""/>
          <p:cNvPicPr/>
          <p:nvPr/>
        </p:nvPicPr>
        <p:blipFill>
          <a:blip r:embed="rId2"/>
          <a:stretch/>
        </p:blipFill>
        <p:spPr>
          <a:xfrm>
            <a:off x="3657600" y="3114720"/>
            <a:ext cx="4835520" cy="27496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219320" y="4876920"/>
            <a:ext cx="2209680" cy="761760"/>
          </a:xfrm>
          <a:prstGeom prst="borderCallout2">
            <a:avLst>
              <a:gd name="adj1" fmla="val 18750"/>
              <a:gd name="adj2" fmla="val -8333"/>
              <a:gd name="adj3" fmla="val 15000"/>
              <a:gd name="adj4" fmla="val 128231"/>
              <a:gd name="adj5" fmla="val 79375"/>
              <a:gd name="adj6" fmla="val 217745"/>
            </a:avLst>
          </a:pr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CP rarely reaches a „Steady State“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5562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CP throughput model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46483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umptions: error free Case (no buffer overflow, no packet corruption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low Start Phase: 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SlowStar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= min{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14800" y="3059280"/>
            <a:ext cx="879480" cy="1002960"/>
          </a:xfrm>
          <a:custGeom>
            <a:avLst/>
            <a:gdLst/>
            <a:ahLst/>
            <a:rect l="l" t="t" r="r" b="b"/>
            <a:pathLst>
              <a:path w="912" h="816">
                <a:moveTo>
                  <a:pt x="0" y="816"/>
                </a:moveTo>
                <a:lnTo>
                  <a:pt x="912" y="816"/>
                </a:lnTo>
                <a:lnTo>
                  <a:pt x="912" y="0"/>
                </a:lnTo>
                <a:lnTo>
                  <a:pt x="768" y="384"/>
                </a:lnTo>
                <a:lnTo>
                  <a:pt x="528" y="624"/>
                </a:lnTo>
                <a:lnTo>
                  <a:pt x="288" y="768"/>
                </a:lnTo>
                <a:lnTo>
                  <a:pt x="0" y="81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27200" y="2511360"/>
            <a:ext cx="1390680" cy="1550880"/>
          </a:xfrm>
          <a:custGeom>
            <a:avLst/>
            <a:gdLst/>
            <a:ahLst/>
            <a:rect l="l" t="t" r="r" b="b"/>
            <a:pathLst>
              <a:path w="912" h="816">
                <a:moveTo>
                  <a:pt x="0" y="816"/>
                </a:moveTo>
                <a:lnTo>
                  <a:pt x="912" y="816"/>
                </a:lnTo>
                <a:lnTo>
                  <a:pt x="912" y="0"/>
                </a:lnTo>
                <a:lnTo>
                  <a:pt x="768" y="384"/>
                </a:lnTo>
                <a:lnTo>
                  <a:pt x="528" y="624"/>
                </a:lnTo>
                <a:lnTo>
                  <a:pt x="288" y="768"/>
                </a:lnTo>
                <a:lnTo>
                  <a:pt x="0" y="81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27200" y="1873080"/>
            <a:ext cx="0" cy="2279880"/>
          </a:xfrm>
          <a:prstGeom prst="line">
            <a:avLst/>
          </a:prstGeom>
          <a:ln w="2556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54120" y="4062240"/>
            <a:ext cx="4610160" cy="0"/>
          </a:xfrm>
          <a:prstGeom prst="line">
            <a:avLst/>
          </a:prstGeom>
          <a:ln w="255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986520" y="40622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5520" y="1708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136880" y="232200"/>
            <a:ext cx="2780640" cy="382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17880" y="2147760"/>
            <a:ext cx="22687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89080" y="1600200"/>
            <a:ext cx="875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B</a:t>
            </a:r>
            <a:r>
              <a:rPr b="0" lang="de-DE" sz="2000" spc="-1" strike="noStrike" baseline="-25000">
                <a:solidFill>
                  <a:srgbClr val="003366"/>
                </a:solidFill>
                <a:latin typeface="Times New Roman"/>
              </a:rPr>
              <a:t>maxTCP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27200" y="2603520"/>
            <a:ext cx="36594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75520" y="2327400"/>
            <a:ext cx="884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B</a:t>
            </a:r>
            <a:r>
              <a:rPr b="0" lang="de-DE" sz="2000" spc="-1" strike="noStrike" baseline="-25000">
                <a:solidFill>
                  <a:srgbClr val="003366"/>
                </a:solidFill>
                <a:latin typeface="Times New Roman"/>
              </a:rPr>
              <a:t>maxLink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6200" y="2590920"/>
            <a:ext cx="0" cy="17319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27200" y="4062240"/>
            <a:ext cx="0" cy="27324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4267080"/>
            <a:ext cx="1447920" cy="0"/>
          </a:xfrm>
          <a:prstGeom prst="line">
            <a:avLst/>
          </a:prstGeom>
          <a:ln w="1260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57040" y="4245120"/>
            <a:ext cx="768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90000"/>
                </a:solidFill>
                <a:latin typeface="Times New Roman"/>
              </a:rPr>
              <a:t>T</a:t>
            </a:r>
            <a:r>
              <a:rPr b="0" lang="de-DE" sz="20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de-DE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de-DE" sz="20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94280" y="3059280"/>
            <a:ext cx="0" cy="100296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989520" y="2055600"/>
            <a:ext cx="1904400" cy="200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35480" y="3059280"/>
            <a:ext cx="95112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294600" y="2786040"/>
            <a:ext cx="834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B</a:t>
            </a:r>
            <a:r>
              <a:rPr b="0" lang="de-DE" sz="2000" spc="-1" strike="noStrike" baseline="-25000">
                <a:solidFill>
                  <a:srgbClr val="003366"/>
                </a:solidFill>
                <a:latin typeface="Times New Roman"/>
              </a:rPr>
              <a:t>maxFil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89680" y="4062240"/>
            <a:ext cx="0" cy="27324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94280" y="4062240"/>
            <a:ext cx="0" cy="27324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89680" y="4245120"/>
            <a:ext cx="804600" cy="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82640" y="424512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T</a:t>
            </a:r>
            <a:r>
              <a:rPr b="0" lang="de-DE" sz="2000" spc="-1" strike="noStrike" baseline="-25000">
                <a:solidFill>
                  <a:srgbClr val="003366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2133720"/>
            <a:ext cx="0" cy="228600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4191120"/>
            <a:ext cx="1371600" cy="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5562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CP throughput (II)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46483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35240" y="2562120"/>
            <a:ext cx="590760" cy="452520"/>
          </a:xfrm>
          <a:custGeom>
            <a:avLst/>
            <a:gdLst/>
            <a:ahLst/>
            <a:rect l="l" t="t" r="r" b="b"/>
            <a:pathLst>
              <a:path w="912" h="816">
                <a:moveTo>
                  <a:pt x="0" y="816"/>
                </a:moveTo>
                <a:lnTo>
                  <a:pt x="912" y="816"/>
                </a:lnTo>
                <a:lnTo>
                  <a:pt x="912" y="0"/>
                </a:lnTo>
                <a:lnTo>
                  <a:pt x="768" y="384"/>
                </a:lnTo>
                <a:lnTo>
                  <a:pt x="528" y="624"/>
                </a:lnTo>
                <a:lnTo>
                  <a:pt x="288" y="768"/>
                </a:lnTo>
                <a:lnTo>
                  <a:pt x="0" y="81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5200" y="2316240"/>
            <a:ext cx="933480" cy="698400"/>
          </a:xfrm>
          <a:custGeom>
            <a:avLst/>
            <a:gdLst/>
            <a:ahLst/>
            <a:rect l="l" t="t" r="r" b="b"/>
            <a:pathLst>
              <a:path w="912" h="816">
                <a:moveTo>
                  <a:pt x="0" y="816"/>
                </a:moveTo>
                <a:lnTo>
                  <a:pt x="912" y="816"/>
                </a:lnTo>
                <a:lnTo>
                  <a:pt x="912" y="0"/>
                </a:lnTo>
                <a:lnTo>
                  <a:pt x="768" y="384"/>
                </a:lnTo>
                <a:lnTo>
                  <a:pt x="528" y="624"/>
                </a:lnTo>
                <a:lnTo>
                  <a:pt x="288" y="768"/>
                </a:lnTo>
                <a:lnTo>
                  <a:pt x="0" y="81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65200" y="2028960"/>
            <a:ext cx="0" cy="1027080"/>
          </a:xfrm>
          <a:prstGeom prst="line">
            <a:avLst/>
          </a:prstGeom>
          <a:ln w="2556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15880" y="3014640"/>
            <a:ext cx="3095640" cy="0"/>
          </a:xfrm>
          <a:prstGeom prst="line">
            <a:avLst/>
          </a:prstGeom>
          <a:ln w="255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17920" y="30146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4800" y="1954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32080" y="1289880"/>
            <a:ext cx="1866240" cy="172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98680" y="2152800"/>
            <a:ext cx="15238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65200" y="2357280"/>
            <a:ext cx="245736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95280" y="2133720"/>
            <a:ext cx="884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B</a:t>
            </a:r>
            <a:r>
              <a:rPr b="0" lang="de-DE" sz="2000" spc="-1" strike="noStrike" baseline="-25000">
                <a:solidFill>
                  <a:srgbClr val="003366"/>
                </a:solidFill>
                <a:latin typeface="Times New Roman"/>
              </a:rPr>
              <a:t>maxLink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78160" y="2351160"/>
            <a:ext cx="0" cy="7808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65200" y="3014640"/>
            <a:ext cx="0" cy="12384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55840" y="3108240"/>
            <a:ext cx="973080" cy="0"/>
          </a:xfrm>
          <a:prstGeom prst="line">
            <a:avLst/>
          </a:prstGeom>
          <a:ln w="1260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28280" y="3097080"/>
            <a:ext cx="768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90000"/>
                </a:solidFill>
                <a:latin typeface="Times New Roman"/>
              </a:rPr>
              <a:t>T</a:t>
            </a:r>
            <a:r>
              <a:rPr b="0" lang="de-DE" sz="20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de-DE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de-DE" sz="20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26000" y="2562120"/>
            <a:ext cx="0" cy="45252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446920" y="2108880"/>
            <a:ext cx="1278720" cy="90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82840" y="2562120"/>
            <a:ext cx="63972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86000" y="3014640"/>
            <a:ext cx="0" cy="12384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26000" y="3014640"/>
            <a:ext cx="0" cy="12384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86000" y="3097080"/>
            <a:ext cx="540000" cy="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49000" y="309708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T</a:t>
            </a:r>
            <a:r>
              <a:rPr b="0" lang="de-DE" sz="2000" spc="-1" strike="noStrike" baseline="-25000">
                <a:solidFill>
                  <a:srgbClr val="003366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28920" y="2146320"/>
            <a:ext cx="0" cy="103032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55840" y="3073320"/>
            <a:ext cx="922320" cy="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4804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241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371600" y="3809880"/>
                <a:ext cx="18828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⌊"/>
                            <m:endChr m:val="⌋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Wnd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ax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TU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RT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320976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371600" y="4495680"/>
                <a:ext cx="22557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⌊"/>
                            <m:endChr m:val="⌋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ax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Link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TT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TU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RT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34815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371600" y="5181480"/>
                <a:ext cx="21812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RT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MSS</m:t>
                    </m:r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28386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809880" y="2895480"/>
                <a:ext cx="4991400" cy="278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lowStart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5562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CP throughput (III)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9560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143000" y="2057400"/>
                <a:ext cx="7391520" cy="375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9-05-29T11:31:44Z</dcterms:created>
  <dc:creator>Ifntk</dc:creator>
  <dc:description/>
  <dc:language>en-US</dc:language>
  <cp:lastModifiedBy>tutschku</cp:lastModifiedBy>
  <dcterms:modified xsi:type="dcterms:W3CDTF">2001-07-26T08:16:21Z</dcterms:modified>
  <cp:revision>132</cp:revision>
  <dc:subject/>
  <dc:title>Bewegungsmodellierung</dc:title>
</cp:coreProperties>
</file>