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14400" y="409392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3632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6832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22224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1440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6832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22224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057400" y="152280"/>
            <a:ext cx="5562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3632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409392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3632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6832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2240" y="190476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6832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22240" y="4093920"/>
            <a:ext cx="2527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057400" y="152280"/>
            <a:ext cx="5562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6320" y="409392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6320" y="1904760"/>
            <a:ext cx="383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784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05560" y="6413040"/>
            <a:ext cx="533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301B-EDB5-443F-A294-B04CFD1F9B15}" type="slidenum">
              <a:rPr b="0" lang="de-DE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33520" y="228600"/>
            <a:ext cx="8086680" cy="6504120"/>
            <a:chOff x="533520" y="228600"/>
            <a:chExt cx="8086680" cy="6504120"/>
          </a:xfrm>
        </p:grpSpPr>
        <p:sp>
          <p:nvSpPr>
            <p:cNvPr id="4" name=""/>
            <p:cNvSpPr/>
            <p:nvPr/>
          </p:nvSpPr>
          <p:spPr>
            <a:xfrm>
              <a:off x="533520" y="1371600"/>
              <a:ext cx="150840" cy="5361120"/>
            </a:xfrm>
            <a:custGeom>
              <a:avLst/>
              <a:gdLst>
                <a:gd name="textAreaLeft" fmla="*/ 360 w 150840"/>
                <a:gd name="textAreaRight" fmla="*/ 150480 w 150840"/>
                <a:gd name="textAreaTop" fmla="*/ 360 h 5361120"/>
                <a:gd name="textAreaBottom" fmla="*/ 5360760 h 5361120"/>
              </a:gdLst>
              <a:ahLst/>
              <a:rect l="textAreaLeft" t="textAreaTop" r="textAreaRight" b="textAreaBottom"/>
              <a:pathLst>
                <a:path w="21600" h="765926">
                  <a:moveTo>
                    <a:pt x="225" y="0"/>
                  </a:moveTo>
                  <a:arcTo wR="225" hR="225" stAng="16200000" swAng="-5400000"/>
                  <a:lnTo>
                    <a:pt x="0" y="765701"/>
                  </a:lnTo>
                  <a:arcTo wR="225" hR="225" stAng="10800000" swAng="-5400000"/>
                  <a:lnTo>
                    <a:pt x="21375" y="765926"/>
                  </a:lnTo>
                  <a:arcTo wR="225" hR="225" stAng="5400000" swAng="-5400000"/>
                  <a:lnTo>
                    <a:pt x="21600" y="225"/>
                  </a:lnTo>
                  <a:arcTo wR="225" hR="225" stAng="0" swAng="-5400000"/>
                  <a:close/>
                </a:path>
              </a:pathLst>
            </a:custGeom>
            <a:solidFill>
              <a:srgbClr val="28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533520" y="1219320"/>
              <a:ext cx="8086680" cy="431280"/>
              <a:chOff x="533520" y="1219320"/>
              <a:chExt cx="8086680" cy="43128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523880"/>
                <a:ext cx="7324560" cy="12672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371600"/>
                <a:ext cx="8086680" cy="15192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219320"/>
                <a:ext cx="5149800" cy="15228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33520" y="228600"/>
              <a:ext cx="152280" cy="1139760"/>
            </a:xfrm>
            <a:custGeom>
              <a:avLst/>
              <a:gdLst>
                <a:gd name="textAreaLeft" fmla="*/ 360 w 152280"/>
                <a:gd name="textAreaRight" fmla="*/ 151920 w 152280"/>
                <a:gd name="textAreaTop" fmla="*/ 360 h 1139760"/>
                <a:gd name="textAreaBottom" fmla="*/ 1139400 h 1139760"/>
              </a:gdLst>
              <a:ahLst/>
              <a:rect l="textAreaLeft" t="textAreaTop" r="textAreaRight" b="textAreaBottom"/>
              <a:pathLst>
                <a:path w="21600" h="161338">
                  <a:moveTo>
                    <a:pt x="225" y="0"/>
                  </a:moveTo>
                  <a:arcTo wR="225" hR="225" stAng="16200000" swAng="-5400000"/>
                  <a:lnTo>
                    <a:pt x="0" y="161113"/>
                  </a:lnTo>
                  <a:arcTo wR="225" hR="225" stAng="10800000" swAng="-5400000"/>
                  <a:lnTo>
                    <a:pt x="21375" y="161338"/>
                  </a:lnTo>
                  <a:arcTo wR="225" hR="225" stAng="5400000" swAng="-5400000"/>
                  <a:lnTo>
                    <a:pt x="21600" y="225"/>
                  </a:lnTo>
                  <a:arcTo wR="225" hR="225" stAng="0" swAng="-5400000"/>
                  <a:close/>
                </a:path>
              </a:pathLst>
            </a:custGeom>
            <a:solidFill>
              <a:srgbClr val="28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0" name="tkw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552600" cy="39852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6324480" y="617220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hair for Telecommunic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890160" y="6172200"/>
            <a:ext cx="197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ITG Workshop W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ü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rzburg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3./24. July 200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" name="ITG2" descr=""/>
          <p:cNvPicPr/>
          <p:nvPr/>
        </p:nvPicPr>
        <p:blipFill>
          <a:blip r:embed="rId3"/>
          <a:stretch/>
        </p:blipFill>
        <p:spPr>
          <a:xfrm>
            <a:off x="990720" y="457200"/>
            <a:ext cx="857160" cy="468360"/>
          </a:xfrm>
          <a:prstGeom prst="rect">
            <a:avLst/>
          </a:prstGeom>
          <a:ln w="0">
            <a:noFill/>
          </a:ln>
        </p:spPr>
      </p:pic>
      <p:pic>
        <p:nvPicPr>
          <p:cNvPr id="14" name="i3" descr=""/>
          <p:cNvPicPr/>
          <p:nvPr/>
        </p:nvPicPr>
        <p:blipFill>
          <a:blip r:embed="rId4"/>
          <a:stretch/>
        </p:blipFill>
        <p:spPr>
          <a:xfrm>
            <a:off x="7772400" y="380880"/>
            <a:ext cx="669960" cy="728640"/>
          </a:xfrm>
          <a:prstGeom prst="rect">
            <a:avLst/>
          </a:prstGeom>
          <a:ln w="0">
            <a:noFill/>
          </a:ln>
        </p:spPr>
      </p:pic>
      <p:pic>
        <p:nvPicPr>
          <p:cNvPr id="15" name="tulogo3" descr=""/>
          <p:cNvPicPr/>
          <p:nvPr/>
        </p:nvPicPr>
        <p:blipFill>
          <a:blip r:embed="rId5"/>
          <a:stretch/>
        </p:blipFill>
        <p:spPr>
          <a:xfrm>
            <a:off x="1066680" y="6095880"/>
            <a:ext cx="2094120" cy="55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3520" y="228600"/>
            <a:ext cx="8086680" cy="6504120"/>
            <a:chOff x="533520" y="228600"/>
            <a:chExt cx="8086680" cy="6504120"/>
          </a:xfrm>
        </p:grpSpPr>
        <p:sp>
          <p:nvSpPr>
            <p:cNvPr id="54" name=""/>
            <p:cNvSpPr/>
            <p:nvPr/>
          </p:nvSpPr>
          <p:spPr>
            <a:xfrm>
              <a:off x="533520" y="1371600"/>
              <a:ext cx="150840" cy="5361120"/>
            </a:xfrm>
            <a:custGeom>
              <a:avLst/>
              <a:gdLst>
                <a:gd name="textAreaLeft" fmla="*/ 360 w 150840"/>
                <a:gd name="textAreaRight" fmla="*/ 150480 w 150840"/>
                <a:gd name="textAreaTop" fmla="*/ 360 h 5361120"/>
                <a:gd name="textAreaBottom" fmla="*/ 5360760 h 5361120"/>
              </a:gdLst>
              <a:ahLst/>
              <a:rect l="textAreaLeft" t="textAreaTop" r="textAreaRight" b="textAreaBottom"/>
              <a:pathLst>
                <a:path w="21600" h="765926">
                  <a:moveTo>
                    <a:pt x="225" y="0"/>
                  </a:moveTo>
                  <a:arcTo wR="225" hR="225" stAng="16200000" swAng="-5400000"/>
                  <a:lnTo>
                    <a:pt x="0" y="765701"/>
                  </a:lnTo>
                  <a:arcTo wR="225" hR="225" stAng="10800000" swAng="-5400000"/>
                  <a:lnTo>
                    <a:pt x="21375" y="765926"/>
                  </a:lnTo>
                  <a:arcTo wR="225" hR="225" stAng="5400000" swAng="-5400000"/>
                  <a:lnTo>
                    <a:pt x="21600" y="225"/>
                  </a:lnTo>
                  <a:arcTo wR="225" hR="225" stAng="0" swAng="-5400000"/>
                  <a:close/>
                </a:path>
              </a:pathLst>
            </a:custGeom>
            <a:solidFill>
              <a:srgbClr val="28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533520" y="1219320"/>
              <a:ext cx="8086680" cy="431280"/>
              <a:chOff x="533520" y="1219320"/>
              <a:chExt cx="8086680" cy="43128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523880"/>
                <a:ext cx="7324560" cy="12672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371600"/>
                <a:ext cx="8086680" cy="15192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219320"/>
                <a:ext cx="5149800" cy="152280"/>
              </a:xfrm>
              <a:prstGeom prst="roundRect">
                <a:avLst>
                  <a:gd name="adj" fmla="val 125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533520" y="228600"/>
              <a:ext cx="152280" cy="1139760"/>
            </a:xfrm>
            <a:custGeom>
              <a:avLst/>
              <a:gdLst>
                <a:gd name="textAreaLeft" fmla="*/ 360 w 152280"/>
                <a:gd name="textAreaRight" fmla="*/ 151920 w 152280"/>
                <a:gd name="textAreaTop" fmla="*/ 360 h 1139760"/>
                <a:gd name="textAreaBottom" fmla="*/ 1139400 h 1139760"/>
              </a:gdLst>
              <a:ahLst/>
              <a:rect l="textAreaLeft" t="textAreaTop" r="textAreaRight" b="textAreaBottom"/>
              <a:pathLst>
                <a:path w="21600" h="161338">
                  <a:moveTo>
                    <a:pt x="225" y="0"/>
                  </a:moveTo>
                  <a:arcTo wR="225" hR="225" stAng="16200000" swAng="-5400000"/>
                  <a:lnTo>
                    <a:pt x="0" y="161113"/>
                  </a:lnTo>
                  <a:arcTo wR="225" hR="225" stAng="10800000" swAng="-5400000"/>
                  <a:lnTo>
                    <a:pt x="21375" y="161338"/>
                  </a:lnTo>
                  <a:arcTo wR="225" hR="225" stAng="5400000" swAng="-5400000"/>
                  <a:lnTo>
                    <a:pt x="21600" y="225"/>
                  </a:lnTo>
                  <a:arcTo wR="225" hR="225" stAng="0" swAng="-5400000"/>
                  <a:close/>
                </a:path>
              </a:pathLst>
            </a:custGeom>
            <a:solidFill>
              <a:srgbClr val="28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0" name="PlaceHolder 2"/>
          <p:cNvSpPr>
            <a:spLocks noGrp="1"/>
          </p:cNvSpPr>
          <p:nvPr>
            <p:ph type="ftr" idx="2"/>
          </p:nvPr>
        </p:nvSpPr>
        <p:spPr>
          <a:xfrm>
            <a:off x="3581280" y="6154560"/>
            <a:ext cx="24386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ITG Workshop W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ü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rz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/24.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July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kw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552600" cy="3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00800" y="61722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hair for Telecommunic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3" name="ITG2" descr=""/>
          <p:cNvPicPr/>
          <p:nvPr/>
        </p:nvPicPr>
        <p:blipFill>
          <a:blip r:embed="rId3"/>
          <a:stretch/>
        </p:blipFill>
        <p:spPr>
          <a:xfrm>
            <a:off x="990720" y="533520"/>
            <a:ext cx="85716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i3" descr=""/>
          <p:cNvPicPr/>
          <p:nvPr/>
        </p:nvPicPr>
        <p:blipFill>
          <a:blip r:embed="rId4"/>
          <a:stretch/>
        </p:blipFill>
        <p:spPr>
          <a:xfrm>
            <a:off x="7848720" y="457200"/>
            <a:ext cx="633240" cy="689040"/>
          </a:xfrm>
          <a:prstGeom prst="rect">
            <a:avLst/>
          </a:prstGeom>
          <a:ln w="0">
            <a:noFill/>
          </a:ln>
        </p:spPr>
      </p:pic>
      <p:pic>
        <p:nvPicPr>
          <p:cNvPr id="65" name="tulogo3" descr=""/>
          <p:cNvPicPr/>
          <p:nvPr/>
        </p:nvPicPr>
        <p:blipFill>
          <a:blip r:embed="rId5"/>
          <a:stretch/>
        </p:blipFill>
        <p:spPr>
          <a:xfrm>
            <a:off x="990720" y="6095880"/>
            <a:ext cx="2090520" cy="557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aracteristics of HTTP/TCP Traffic”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Jörg Schüler, Daniel Müll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ische Universität Dres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hair for Telecommunic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of. Dr.-Ing. Lehner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95000" y="198108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G Workshop W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ü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zbur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3./24. July 200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562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CP throughput (IV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9" name="tab_slow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28480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1.0 (Basis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419076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ell object downl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connection establishment for each object (incl. connection setu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[Irnisch, ITG WS 2000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77960" y="1905120"/>
            <a:ext cx="6308640" cy="1462320"/>
            <a:chOff x="1677960" y="1905120"/>
            <a:chExt cx="6308640" cy="1462320"/>
          </a:xfrm>
        </p:grpSpPr>
        <p:sp>
          <p:nvSpPr>
            <p:cNvPr id="203" name=""/>
            <p:cNvSpPr/>
            <p:nvPr/>
          </p:nvSpPr>
          <p:spPr>
            <a:xfrm>
              <a:off x="2595600" y="2378160"/>
              <a:ext cx="411120" cy="1778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43320" y="2378160"/>
              <a:ext cx="412920" cy="17784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79920" y="2378160"/>
              <a:ext cx="411120" cy="17784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89320" y="2673360"/>
              <a:ext cx="54259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77960" y="225900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UL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77960" y="267336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DL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5680" y="2673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76560" y="2792520"/>
              <a:ext cx="1098720" cy="176040"/>
            </a:xfrm>
            <a:prstGeom prst="rect">
              <a:avLst/>
            </a:prstGeom>
            <a:solidFill>
              <a:srgbClr val="99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24280" y="2792520"/>
              <a:ext cx="75564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61240" y="2792520"/>
              <a:ext cx="157932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19680" y="1916280"/>
              <a:ext cx="191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HTTP GET Req.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60600" y="1905120"/>
              <a:ext cx="335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Requests for embedded object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41560" y="2968560"/>
              <a:ext cx="13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Master Fil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31360" y="296856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Embedded Object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14600" y="2666880"/>
              <a:ext cx="16765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2666880"/>
              <a:ext cx="129528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86400" y="2666880"/>
              <a:ext cx="205740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061280" y="335268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uration of TCP connec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438280" y="2666880"/>
            <a:ext cx="533520" cy="7621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1.0 (parallel con.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45716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4 parallel TCP conn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connection establishment for each object (incl. connection setu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32000" y="175248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Requests for embedded objec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9160" y="175248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HTTP GET Req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05080" y="2214720"/>
            <a:ext cx="411120" cy="177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0" y="2214720"/>
            <a:ext cx="41292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9400" y="2214720"/>
            <a:ext cx="41148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98800" y="2509920"/>
            <a:ext cx="54259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45160" y="250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6040" y="2629080"/>
            <a:ext cx="1098720" cy="176040"/>
          </a:xfrm>
          <a:prstGeom prst="rect">
            <a:avLst/>
          </a:prstGeom>
          <a:solidFill>
            <a:srgbClr val="99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33760" y="2629080"/>
            <a:ext cx="75564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70720" y="2629080"/>
            <a:ext cx="157932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27400" y="2805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24080" y="2503440"/>
            <a:ext cx="167652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00600" y="2503440"/>
            <a:ext cx="129528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95880" y="2503440"/>
            <a:ext cx="205740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147760" y="2960640"/>
            <a:ext cx="5624640" cy="736920"/>
            <a:chOff x="2147760" y="2960640"/>
            <a:chExt cx="5624640" cy="736920"/>
          </a:xfrm>
        </p:grpSpPr>
        <p:sp>
          <p:nvSpPr>
            <p:cNvPr id="239" name=""/>
            <p:cNvSpPr/>
            <p:nvPr/>
          </p:nvSpPr>
          <p:spPr>
            <a:xfrm>
              <a:off x="4029120" y="3003480"/>
              <a:ext cx="412560" cy="17784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10280" y="2960640"/>
              <a:ext cx="411120" cy="17784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47760" y="3265200"/>
              <a:ext cx="54259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21480" y="32986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10080" y="3341520"/>
              <a:ext cx="1523880" cy="25236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67480" y="3417840"/>
              <a:ext cx="75888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76560" y="3265200"/>
              <a:ext cx="21337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10280" y="3265200"/>
              <a:ext cx="12189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133720" y="3733920"/>
            <a:ext cx="5624640" cy="736560"/>
            <a:chOff x="2133720" y="3733920"/>
            <a:chExt cx="5624640" cy="736560"/>
          </a:xfrm>
        </p:grpSpPr>
        <p:sp>
          <p:nvSpPr>
            <p:cNvPr id="248" name=""/>
            <p:cNvSpPr/>
            <p:nvPr/>
          </p:nvSpPr>
          <p:spPr>
            <a:xfrm>
              <a:off x="4015080" y="3776400"/>
              <a:ext cx="412560" cy="17748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3733920"/>
              <a:ext cx="411120" cy="17748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33720" y="4038480"/>
              <a:ext cx="5426280" cy="10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07440" y="4071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6040" y="4114440"/>
              <a:ext cx="380880" cy="2282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53440" y="4190760"/>
              <a:ext cx="75888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62520" y="4038480"/>
              <a:ext cx="91440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96240" y="4038480"/>
              <a:ext cx="1219320" cy="108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4114440"/>
              <a:ext cx="755640" cy="17604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76920" y="4038480"/>
              <a:ext cx="12193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96240" y="3733920"/>
              <a:ext cx="411120" cy="17748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1.0 (keep alive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45716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4 parallel TCP conn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re-establishment of TCP connections for following object downloads (from the same serv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0" y="175248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Requests for embedded objec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9160" y="175248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HTTP GET Req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05080" y="2214720"/>
            <a:ext cx="411120" cy="177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0" y="2214720"/>
            <a:ext cx="41292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9400" y="2214720"/>
            <a:ext cx="41148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98800" y="2509920"/>
            <a:ext cx="54259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45160" y="250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86040" y="2629080"/>
            <a:ext cx="1098720" cy="176040"/>
          </a:xfrm>
          <a:prstGeom prst="rect">
            <a:avLst/>
          </a:prstGeom>
          <a:solidFill>
            <a:srgbClr val="99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33760" y="2629080"/>
            <a:ext cx="75564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70720" y="2629080"/>
            <a:ext cx="157932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27400" y="2805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4080" y="2503440"/>
            <a:ext cx="5091120" cy="1116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9120" y="3003480"/>
            <a:ext cx="41256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10280" y="296064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47760" y="3265560"/>
            <a:ext cx="54262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21480" y="32986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10080" y="3341520"/>
            <a:ext cx="1523880" cy="2527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67480" y="3417840"/>
            <a:ext cx="758880" cy="1764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76560" y="3265560"/>
            <a:ext cx="3338640" cy="1116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14720" y="3776760"/>
            <a:ext cx="4129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373392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4038480"/>
            <a:ext cx="5425920" cy="18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7080" y="4071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4114800"/>
            <a:ext cx="38124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4191120"/>
            <a:ext cx="75888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038480"/>
            <a:ext cx="335268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4120" y="4114800"/>
            <a:ext cx="75564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373392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1.1 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45716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4 parallel TCP conn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istent TCP conn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pelined reque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32000" y="175248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Requests for embedded objec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9160" y="175248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HTTP GET Req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05080" y="2214720"/>
            <a:ext cx="411120" cy="177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0" y="2214720"/>
            <a:ext cx="412920" cy="17748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220968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98800" y="2509920"/>
            <a:ext cx="54259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160" y="250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86040" y="2629080"/>
            <a:ext cx="1098720" cy="176040"/>
          </a:xfrm>
          <a:prstGeom prst="rect">
            <a:avLst/>
          </a:prstGeom>
          <a:solidFill>
            <a:srgbClr val="99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590920"/>
            <a:ext cx="75564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5000" y="2590920"/>
            <a:ext cx="1579680" cy="17604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27400" y="2805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4080" y="2503440"/>
            <a:ext cx="5091120" cy="1116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2971800"/>
            <a:ext cx="4129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297180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47760" y="3265560"/>
            <a:ext cx="54262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21480" y="32986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3352680"/>
            <a:ext cx="152424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53080" y="3352680"/>
            <a:ext cx="77328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76560" y="3265560"/>
            <a:ext cx="3338640" cy="1116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3733920"/>
            <a:ext cx="4129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373392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4038480"/>
            <a:ext cx="5425920" cy="18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07080" y="4071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4114800"/>
            <a:ext cx="38124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114800"/>
            <a:ext cx="75888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4038480"/>
            <a:ext cx="335268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4114800"/>
            <a:ext cx="755640" cy="22860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3733920"/>
            <a:ext cx="411120" cy="17784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terministic case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ssump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xed number of objects per page: 1, 20 and 8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xed file (object) sizes: 80kByte, 4 kByte and 1kBy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ay budg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connection setup: 1 RTT (SYN, AC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mission of HTTP request: 0.5*RT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byte arrival of object: 0.5*RTT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culations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2" name="tab_offer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6656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mulation Study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4" name="model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mulations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371600" y="1905120"/>
          <a:ext cx="6934320" cy="4154400"/>
        </p:xfrm>
        <a:graphic>
          <a:graphicData uri="http://schemas.openxmlformats.org/drawingml/2006/table">
            <a:tbl>
              <a:tblPr/>
              <a:tblGrid>
                <a:gridCol w="2286000"/>
                <a:gridCol w="1600200"/>
                <a:gridCol w="1600200"/>
                <a:gridCol w="14479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o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TS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mber of Web-Page-Requests per Ses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gnorm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12.58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5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20.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ading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ibul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39.45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412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20.0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mber of  Objects per P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mm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5.5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2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qual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N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-Object Processing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mm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0.86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metr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=0.0104 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de-DE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x*RT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bject Siz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gnorm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S]=7.7 kByt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et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S]=12 kByt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qual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[S]=4 kByt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ffered Load (1 user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9" name="offered_all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5959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verview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CP throughput mode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ing initial Slow Start phase 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view on HTTP ver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culation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tion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culation vs. Simulation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1" name="tab_off_comp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4611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roughput (more users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3" name="throu_all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9008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roughput (inc. errors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5" name="throu_10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8580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clusions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throughput model takes the initial Slow Start phase into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oblem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ecast of RTT (dynamic due to queuing)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olvable for infinite buffer sizes !!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ions of HTTP and TCP are easy to determ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ple calculations for a deterministic scenar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t many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if´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then´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(different cas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mulation results show very high variations and confidence intervall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ffered Load (II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9" name="offer_basis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3808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b Browsing” (WWW) is THE most used application in today´s Intern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pe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sfe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tocol (HTT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% to 95% portion of the overall Internet traffic is HTTP rel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 combines former independent application protocols like “ftp” or “news” in 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3808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ML Docu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32000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 organizes the transfer of Hyper Text Markup Language (HTML) documents (Web Pag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 documents contain of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ster File (page descriptio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ral inline (embedded) objects/files (same or diff. serve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ing Problem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umber of embedded objects and its file sizes vary in a wide range (application driven),  [Charzinski, etc.]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http2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265800" cy="1306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0" y="2286000"/>
            <a:ext cx="152280" cy="3808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62000" y="2286000"/>
            <a:ext cx="75960" cy="3808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TTP and TC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: file request phase and a file download ph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file (object) transfer HTTP uses the Transmission Control Protocol (TC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offers a reliable, in-sequence data transmi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lso comes with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low contro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Slow Start, CA) an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onnection setup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h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effec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ynamic and file size dependent traffic load (throughput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ject request delay´s + connection setup 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666880" y="2286000"/>
            <a:ext cx="4357080" cy="635760"/>
            <a:chOff x="2666880" y="2286000"/>
            <a:chExt cx="4357080" cy="635760"/>
          </a:xfrm>
        </p:grpSpPr>
        <p:sp>
          <p:nvSpPr>
            <p:cNvPr id="118" name=""/>
            <p:cNvSpPr/>
            <p:nvPr/>
          </p:nvSpPr>
          <p:spPr>
            <a:xfrm>
              <a:off x="2826360" y="2286000"/>
              <a:ext cx="317880" cy="142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00760" y="2286000"/>
              <a:ext cx="319320" cy="14256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57280" y="2286000"/>
              <a:ext cx="317880" cy="14256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66880" y="2522880"/>
              <a:ext cx="419724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73040" y="25228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8240" y="2618280"/>
              <a:ext cx="849600" cy="141480"/>
            </a:xfrm>
            <a:prstGeom prst="rect">
              <a:avLst/>
            </a:prstGeom>
            <a:solidFill>
              <a:srgbClr val="99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73000" y="2618280"/>
              <a:ext cx="584280" cy="14148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29880" y="2618280"/>
              <a:ext cx="1221480" cy="14148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63720" y="2517840"/>
              <a:ext cx="12967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60440" y="2517840"/>
              <a:ext cx="100188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2320" y="2517840"/>
              <a:ext cx="159120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Question !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895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lting Traffic Characteristics for  HTTP/TCP traffic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tcphttp2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312408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tcp_behav2" descr=""/>
          <p:cNvPicPr/>
          <p:nvPr/>
        </p:nvPicPr>
        <p:blipFill>
          <a:blip r:embed="rId2"/>
          <a:stretch/>
        </p:blipFill>
        <p:spPr>
          <a:xfrm>
            <a:off x="3657600" y="3114720"/>
            <a:ext cx="4835520" cy="2749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4876920"/>
            <a:ext cx="220968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28231"/>
              <a:gd name="adj5" fmla="val 79375"/>
              <a:gd name="adj6" fmla="val 217745"/>
            </a:avLst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CP rarely reaches a „Steady State“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562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CP throughput model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46483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ptions: error free Case (no buffer overflow, no packet corruption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ow Start Phase: 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SlowStar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= min{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14800" y="3059280"/>
            <a:ext cx="879480" cy="100296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816"/>
                </a:moveTo>
                <a:lnTo>
                  <a:pt x="912" y="816"/>
                </a:lnTo>
                <a:lnTo>
                  <a:pt x="912" y="0"/>
                </a:lnTo>
                <a:lnTo>
                  <a:pt x="768" y="384"/>
                </a:lnTo>
                <a:lnTo>
                  <a:pt x="528" y="624"/>
                </a:lnTo>
                <a:lnTo>
                  <a:pt x="288" y="768"/>
                </a:lnTo>
                <a:lnTo>
                  <a:pt x="0" y="81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27200" y="2511360"/>
            <a:ext cx="1390680" cy="155088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816"/>
                </a:moveTo>
                <a:lnTo>
                  <a:pt x="912" y="816"/>
                </a:lnTo>
                <a:lnTo>
                  <a:pt x="912" y="0"/>
                </a:lnTo>
                <a:lnTo>
                  <a:pt x="768" y="384"/>
                </a:lnTo>
                <a:lnTo>
                  <a:pt x="528" y="624"/>
                </a:lnTo>
                <a:lnTo>
                  <a:pt x="288" y="768"/>
                </a:lnTo>
                <a:lnTo>
                  <a:pt x="0" y="8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27200" y="1873080"/>
            <a:ext cx="0" cy="227988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54120" y="4062240"/>
            <a:ext cx="46101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86520" y="4062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5520" y="1708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136880" y="232200"/>
            <a:ext cx="2780640" cy="38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17880" y="2147760"/>
            <a:ext cx="22687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89080" y="1600200"/>
            <a:ext cx="87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maxTC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27200" y="2603520"/>
            <a:ext cx="3659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75520" y="2327400"/>
            <a:ext cx="88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maxLin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2590920"/>
            <a:ext cx="0" cy="17319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27200" y="4062240"/>
            <a:ext cx="0" cy="2732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4267080"/>
            <a:ext cx="144792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57040" y="4245120"/>
            <a:ext cx="76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de-DE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94280" y="3059280"/>
            <a:ext cx="0" cy="100296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989520" y="2055600"/>
            <a:ext cx="1904400" cy="200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35480" y="3059280"/>
            <a:ext cx="95112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94600" y="2786040"/>
            <a:ext cx="83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maxFil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89680" y="4062240"/>
            <a:ext cx="0" cy="2732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94280" y="4062240"/>
            <a:ext cx="0" cy="2732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89680" y="4245120"/>
            <a:ext cx="8046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82640" y="42451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2133720"/>
            <a:ext cx="0" cy="22860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4191120"/>
            <a:ext cx="137160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562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CP throughput (II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46483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5240" y="2562120"/>
            <a:ext cx="590760" cy="45252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816"/>
                </a:moveTo>
                <a:lnTo>
                  <a:pt x="912" y="816"/>
                </a:lnTo>
                <a:lnTo>
                  <a:pt x="912" y="0"/>
                </a:lnTo>
                <a:lnTo>
                  <a:pt x="768" y="384"/>
                </a:lnTo>
                <a:lnTo>
                  <a:pt x="528" y="624"/>
                </a:lnTo>
                <a:lnTo>
                  <a:pt x="288" y="768"/>
                </a:lnTo>
                <a:lnTo>
                  <a:pt x="0" y="81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5200" y="2316240"/>
            <a:ext cx="933480" cy="69840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816"/>
                </a:moveTo>
                <a:lnTo>
                  <a:pt x="912" y="816"/>
                </a:lnTo>
                <a:lnTo>
                  <a:pt x="912" y="0"/>
                </a:lnTo>
                <a:lnTo>
                  <a:pt x="768" y="384"/>
                </a:lnTo>
                <a:lnTo>
                  <a:pt x="528" y="624"/>
                </a:lnTo>
                <a:lnTo>
                  <a:pt x="288" y="768"/>
                </a:lnTo>
                <a:lnTo>
                  <a:pt x="0" y="8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65200" y="2028960"/>
            <a:ext cx="0" cy="102708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15880" y="3014640"/>
            <a:ext cx="309564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7920" y="3014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800" y="1954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32080" y="1289880"/>
            <a:ext cx="1866240" cy="172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8680" y="2152800"/>
            <a:ext cx="15238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65200" y="2357280"/>
            <a:ext cx="24573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95280" y="2133720"/>
            <a:ext cx="88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maxLin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78160" y="2351160"/>
            <a:ext cx="0" cy="780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65200" y="3014640"/>
            <a:ext cx="0" cy="1238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55840" y="3108240"/>
            <a:ext cx="97308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28280" y="3097080"/>
            <a:ext cx="76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de-DE" sz="20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26000" y="2562120"/>
            <a:ext cx="0" cy="4525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446920" y="2108880"/>
            <a:ext cx="1278720" cy="90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82840" y="2562120"/>
            <a:ext cx="63972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86000" y="3014640"/>
            <a:ext cx="0" cy="1238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26000" y="3014640"/>
            <a:ext cx="0" cy="1238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86000" y="3097080"/>
            <a:ext cx="540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9000" y="3097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28920" y="2146320"/>
            <a:ext cx="0" cy="10303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55840" y="3073320"/>
            <a:ext cx="92232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80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24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371600" y="3809880"/>
                <a:ext cx="18828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⌊"/>
                            <m:endChr m:val="⌋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n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TU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T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20976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371600" y="4495680"/>
                <a:ext cx="22557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⌊"/>
                            <m:endChr m:val="⌋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ink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T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TU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T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4815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371600" y="5181480"/>
                <a:ext cx="2181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T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SS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8386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2895480"/>
                <a:ext cx="4991400" cy="27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lowStart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562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CP throughput (III)</a:t>
            </a:r>
            <a:br>
              <a:rPr sz="1200"/>
            </a:b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956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43000" y="2057400"/>
                <a:ext cx="7391520" cy="37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9-05-29T11:31:44Z</dcterms:created>
  <dc:creator>Ifntk</dc:creator>
  <dc:description/>
  <dc:language>en-US</dc:language>
  <cp:lastModifiedBy>tutschku</cp:lastModifiedBy>
  <dcterms:modified xsi:type="dcterms:W3CDTF">2001-07-26T08:16:21Z</dcterms:modified>
  <cp:revision>132</cp:revision>
  <dc:subject/>
  <dc:title>Bewegungsmodellierung</dc:title>
</cp:coreProperties>
</file>