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05560" y="6413040"/>
            <a:ext cx="533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BF1-E91C-4634-8F96-9C863E25C324}" type="slidenum">
              <a:rPr b="0" lang="de-D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0" name="tkw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324480" y="61722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90160" y="6172200"/>
            <a:ext cx="197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" name="ITG2" descr=""/>
          <p:cNvPicPr/>
          <p:nvPr/>
        </p:nvPicPr>
        <p:blipFill>
          <a:blip r:embed="rId3"/>
          <a:stretch/>
        </p:blipFill>
        <p:spPr>
          <a:xfrm>
            <a:off x="990720" y="45720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14" name="i3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669960" cy="728640"/>
          </a:xfrm>
          <a:prstGeom prst="rect">
            <a:avLst/>
          </a:prstGeom>
          <a:ln w="0">
            <a:noFill/>
          </a:ln>
        </p:spPr>
      </p:pic>
      <p:pic>
        <p:nvPicPr>
          <p:cNvPr id="15" name="tulogo3" descr=""/>
          <p:cNvPicPr/>
          <p:nvPr/>
        </p:nvPicPr>
        <p:blipFill>
          <a:blip r:embed="rId5"/>
          <a:stretch/>
        </p:blipFill>
        <p:spPr>
          <a:xfrm>
            <a:off x="1066680" y="6095880"/>
            <a:ext cx="2094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5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3581280" y="6154560"/>
            <a:ext cx="243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/24.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July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kw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00800" y="6172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" name="ITG2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i3" descr=""/>
          <p:cNvPicPr/>
          <p:nvPr/>
        </p:nvPicPr>
        <p:blipFill>
          <a:blip r:embed="rId4"/>
          <a:stretch/>
        </p:blipFill>
        <p:spPr>
          <a:xfrm>
            <a:off x="7848720" y="457200"/>
            <a:ext cx="633240" cy="689040"/>
          </a:xfrm>
          <a:prstGeom prst="rect">
            <a:avLst/>
          </a:prstGeom>
          <a:ln w="0">
            <a:noFill/>
          </a:ln>
        </p:spPr>
      </p:pic>
      <p:pic>
        <p:nvPicPr>
          <p:cNvPr id="65" name="tulogo3" descr=""/>
          <p:cNvPicPr/>
          <p:nvPr/>
        </p:nvPicPr>
        <p:blipFill>
          <a:blip r:embed="rId5"/>
          <a:stretch/>
        </p:blipFill>
        <p:spPr>
          <a:xfrm>
            <a:off x="990720" y="6095880"/>
            <a:ext cx="2090520" cy="557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racteristics of HTTP/TCP Traffic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örg Schüler, Daniel Mü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ische Universität Dres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f. Dr.-Ing. Lehne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95000" y="19810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V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tab_slow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848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Basi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41907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ll object down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Irnisch, ITG WS 2000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7960" y="1905120"/>
            <a:ext cx="6308640" cy="1462320"/>
            <a:chOff x="1677960" y="1905120"/>
            <a:chExt cx="6308640" cy="1462320"/>
          </a:xfrm>
        </p:grpSpPr>
        <p:sp>
          <p:nvSpPr>
            <p:cNvPr id="203" name=""/>
            <p:cNvSpPr/>
            <p:nvPr/>
          </p:nvSpPr>
          <p:spPr>
            <a:xfrm>
              <a:off x="2595600" y="2378160"/>
              <a:ext cx="411120" cy="1778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3320" y="2378160"/>
              <a:ext cx="4129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9920" y="237816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9320" y="267336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7960" y="2259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7960" y="2673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D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5680" y="2673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76560" y="2792520"/>
              <a:ext cx="1098720" cy="17604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279252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61240" y="2792520"/>
              <a:ext cx="157932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19680" y="191628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TTP GET Req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60600" y="1905120"/>
              <a:ext cx="33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Requests for 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1560" y="2968560"/>
              <a:ext cx="13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Master F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1360" y="296856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2666880"/>
              <a:ext cx="16765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2666880"/>
              <a:ext cx="12952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2666880"/>
              <a:ext cx="2057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1280" y="335268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uration of TCP conne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438280" y="2666880"/>
            <a:ext cx="533520" cy="7621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parallel con.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4080" y="2503440"/>
            <a:ext cx="167652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00600" y="2503440"/>
            <a:ext cx="12952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95880" y="2503440"/>
            <a:ext cx="205740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47760" y="2960640"/>
            <a:ext cx="5624640" cy="736920"/>
            <a:chOff x="2147760" y="2960640"/>
            <a:chExt cx="5624640" cy="736920"/>
          </a:xfrm>
        </p:grpSpPr>
        <p:sp>
          <p:nvSpPr>
            <p:cNvPr id="239" name=""/>
            <p:cNvSpPr/>
            <p:nvPr/>
          </p:nvSpPr>
          <p:spPr>
            <a:xfrm>
              <a:off x="4029120" y="3003480"/>
              <a:ext cx="41256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0280" y="296064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7760" y="326520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1480" y="32986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10080" y="3341520"/>
              <a:ext cx="1523880" cy="25236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67480" y="341784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76560" y="3265200"/>
              <a:ext cx="2133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0280" y="3265200"/>
              <a:ext cx="1218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133720" y="3733920"/>
            <a:ext cx="5624640" cy="736560"/>
            <a:chOff x="2133720" y="3733920"/>
            <a:chExt cx="5624640" cy="736560"/>
          </a:xfrm>
        </p:grpSpPr>
        <p:sp>
          <p:nvSpPr>
            <p:cNvPr id="248" name=""/>
            <p:cNvSpPr/>
            <p:nvPr/>
          </p:nvSpPr>
          <p:spPr>
            <a:xfrm>
              <a:off x="4015080" y="3776400"/>
              <a:ext cx="41256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3720" y="4038480"/>
              <a:ext cx="542628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7440" y="407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040" y="4114440"/>
              <a:ext cx="380880" cy="2282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3440" y="419076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038480"/>
              <a:ext cx="914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4038480"/>
              <a:ext cx="1219320" cy="1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411444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920" y="4038480"/>
              <a:ext cx="12193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624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keep alive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-establishment of TCP connections for following object downloads (from the same serv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9120" y="3003480"/>
            <a:ext cx="41256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0280" y="296064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10080" y="3341520"/>
            <a:ext cx="1523880" cy="252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67480" y="3417840"/>
            <a:ext cx="758880" cy="1764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14720" y="377676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4191120"/>
            <a:ext cx="7588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411480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1 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istent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pelined requ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220968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59092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2590920"/>
            <a:ext cx="15796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97180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97180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352680"/>
            <a:ext cx="1524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3352680"/>
            <a:ext cx="7732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373392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114800"/>
            <a:ext cx="7588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4114800"/>
            <a:ext cx="7556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terministic case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ssump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number of objects per page: 1, 20 and 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file (object) sizes: 80kByte, 4 kByte and 1kBy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ay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setup: 1 RTT (SYN, AC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mission of HTTP request: 0.5*RT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byte arrival of object: 0.5*RTT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tab_offer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6656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 Study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model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371600" y="1905120"/>
          <a:ext cx="6934320" cy="415440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  <a:gridCol w="1600200"/>
                <a:gridCol w="14479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TS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Web-Page-Requests per Se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12.5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20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d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bul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39.45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412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.0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 Objects per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-Object Process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86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0104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x*RT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ect Siz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7.7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e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12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4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1 user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offered_all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595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verview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CP throughput mod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ing initial Slow Start phase 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n HTTP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 vs. Simulation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1" name="tab_off_comp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4611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more use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3" name="throu_all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0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inc. erro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5" name="throu_10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throughput model takes the initial Slow Start phase into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oblem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ecast of RTT (dynamic due to queuing)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olvable for infinite buffer sizes !!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ons of HTTP and TCP are easy to determ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ple calculations for a deterministic scen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many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f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hen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different cas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ulation results show very high variations and confidence interval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9" name="offer_basis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 Browsing” (WWW) is THE most used application in today´s 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p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f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tocol (HT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to 95% portion of the overall Internet traffic is HTTP 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 combines former independent application protocols like “ftp” or “news” in 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ML Doc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 organizes the transfer of Hyper Text Markup Language (HTML) documents (Web Pa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cuments contain of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ster File (page descrip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ral inline (embedded) objects/files (same or diff. serv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ing Proble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mber of embedded objects and its file sizes vary in a wide range (application driven),  [Charzinski, etc.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http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65800" cy="130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2286000"/>
            <a:ext cx="15228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000" y="2286000"/>
            <a:ext cx="7596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and TC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 file request phase and a file download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file (object) transfer HTTP uses the Transmission Control Protocol (TC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offers a reliable, in-sequence data trans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so comes with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low contro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Slow Start, CA)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nnection setu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effec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ynamic and file size dependent traffic load (throughput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 request delay´s + connection setup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666880" y="2286000"/>
            <a:ext cx="4357080" cy="635760"/>
            <a:chOff x="2666880" y="2286000"/>
            <a:chExt cx="4357080" cy="635760"/>
          </a:xfrm>
        </p:grpSpPr>
        <p:sp>
          <p:nvSpPr>
            <p:cNvPr id="118" name=""/>
            <p:cNvSpPr/>
            <p:nvPr/>
          </p:nvSpPr>
          <p:spPr>
            <a:xfrm>
              <a:off x="2826360" y="2286000"/>
              <a:ext cx="317880" cy="142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00760" y="2286000"/>
              <a:ext cx="31932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57280" y="2286000"/>
              <a:ext cx="31788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2522880"/>
              <a:ext cx="419724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3040" y="2522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8240" y="2618280"/>
              <a:ext cx="849600" cy="14148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3000" y="2618280"/>
              <a:ext cx="5842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880" y="2618280"/>
              <a:ext cx="12214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3720" y="2517840"/>
              <a:ext cx="1296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0440" y="2517840"/>
              <a:ext cx="10018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2320" y="2517840"/>
              <a:ext cx="15912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estion !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9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ing Traffic Characteristics for  HTTP/TCP traffic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tcphttp2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12408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tcp_behav2" descr=""/>
          <p:cNvPicPr/>
          <p:nvPr/>
        </p:nvPicPr>
        <p:blipFill>
          <a:blip r:embed="rId2"/>
          <a:stretch/>
        </p:blipFill>
        <p:spPr>
          <a:xfrm>
            <a:off x="3657600" y="3114720"/>
            <a:ext cx="48355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4876920"/>
            <a:ext cx="22096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8231"/>
              <a:gd name="adj5" fmla="val 79375"/>
              <a:gd name="adj6" fmla="val 217745"/>
            </a:avLst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CP rarely reaches a „Steady State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model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ptions: error free Case (no buffer overflow, no packet corrupti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ow Start Phase: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SlowSta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min{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4800" y="3059280"/>
            <a:ext cx="879480" cy="10029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2511360"/>
            <a:ext cx="1390680" cy="15508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27200" y="1873080"/>
            <a:ext cx="0" cy="22798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54120" y="4062240"/>
            <a:ext cx="46101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86520" y="406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170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36880" y="232200"/>
            <a:ext cx="2780640" cy="38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7880" y="2147760"/>
            <a:ext cx="22687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89080" y="1600200"/>
            <a:ext cx="8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T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7200" y="2603520"/>
            <a:ext cx="3659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5520" y="232740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0920"/>
            <a:ext cx="0" cy="1731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7200" y="4062240"/>
            <a:ext cx="0" cy="2732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267080"/>
            <a:ext cx="144792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7040" y="424512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3059280"/>
            <a:ext cx="0" cy="10029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89520" y="2055600"/>
            <a:ext cx="1904400" cy="200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5480" y="3059280"/>
            <a:ext cx="9511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94600" y="2786040"/>
            <a:ext cx="83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F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96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42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89680" y="4245120"/>
            <a:ext cx="8046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2640" y="42451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133720"/>
            <a:ext cx="0" cy="2286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191120"/>
            <a:ext cx="137160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5240" y="2562120"/>
            <a:ext cx="590760" cy="45252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5200" y="2316240"/>
            <a:ext cx="933480" cy="69840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5200" y="2028960"/>
            <a:ext cx="0" cy="10270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5880" y="3014640"/>
            <a:ext cx="309564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7920" y="3014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195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2080" y="1289880"/>
            <a:ext cx="1866240" cy="172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8680" y="2152800"/>
            <a:ext cx="15238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5200" y="2357280"/>
            <a:ext cx="2457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5280" y="213372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8160" y="2351160"/>
            <a:ext cx="0" cy="780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65200" y="3014640"/>
            <a:ext cx="0" cy="1238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55840" y="3108240"/>
            <a:ext cx="97308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8280" y="309708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6000" y="2562120"/>
            <a:ext cx="0" cy="452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46920" y="2108880"/>
            <a:ext cx="1278720" cy="90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82840" y="2562120"/>
            <a:ext cx="6397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8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2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86000" y="3097080"/>
            <a:ext cx="540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9000" y="3097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28920" y="2146320"/>
            <a:ext cx="0" cy="10303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5840" y="3073320"/>
            <a:ext cx="92232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24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3809880"/>
                <a:ext cx="18828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n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0976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1600" y="4495680"/>
                <a:ext cx="22557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ink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481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71600" y="5181480"/>
                <a:ext cx="21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SS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8386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2895480"/>
                <a:ext cx="499140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owStart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5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43000" y="2057400"/>
                <a:ext cx="7391520" cy="37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05-29T11:31:44Z</dcterms:created>
  <dc:creator>Ifntk</dc:creator>
  <dc:description/>
  <dc:language>en-US</dc:language>
  <cp:lastModifiedBy>tutschku</cp:lastModifiedBy>
  <dcterms:modified xsi:type="dcterms:W3CDTF">2001-07-26T08:16:21Z</dcterms:modified>
  <cp:revision>132</cp:revision>
  <dc:subject/>
  <dc:title>Bewegungsmodellierung</dc:title>
</cp:coreProperties>
</file>